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320-9C51-4762-B39E-0A4C3F3F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CE0-7EB1-4725-BE9F-BA9DE45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47E-4025-4704-9946-1632E463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3DB-7ABB-439C-9A71-C9D6B0F2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0ACD-024E-4FF5-8DA7-9E21ED85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EB1A-6494-4C5B-8285-D8E5F4D9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CC9-F705-4DE1-BBE7-5733EC0D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FDA3-8483-4DFF-9130-C9EECC3D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3AA9-F416-4F1E-9357-0816B437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90DC-DF55-4FF6-9BF9-A1E6A8D3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449F-D4C5-4716-886F-C57D3C07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7E9-70E5-431A-9777-6F8B49DF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7F07-5C65-4E73-96E0-E9DC0A9A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0947-A6EE-4BAA-BC9B-1102B13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959-7B15-4386-B80B-E6E846E2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F6A-8BAE-40B1-8F4B-FB1F69C3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1E32-1EB5-4EB7-8D64-DFB77A49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7CA-BAE9-4F64-86DC-A0189FB9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F03-842A-4D63-BF70-8FE93812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FD2-653E-4173-B449-B21B0A2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C00-0EC3-4D1B-8107-AB28AA4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B60-A6D2-4DE8-AB16-677CB9D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27F-6253-40D3-9A6D-1E944892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2F9-B964-403C-960F-A85968B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550-3BFD-4FA7-93B4-87E473CDA5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404D-7750-4D0F-850D-CC2D8F2CB94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J_002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914400" y="15238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36640" y="68256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a07a"/>
                </a:solidFill>
                <a:latin typeface="Times New Roman"/>
              </a:rPr>
              <a:t>Unit  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514600"/>
            <a:ext cx="37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672a"/>
                </a:solidFill>
                <a:latin typeface="Times New Roman"/>
              </a:rPr>
              <a:t>Good friend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fcfe"/>
                </a:solidFill>
                <a:latin typeface="Times New Roman"/>
              </a:rPr>
              <a:t>宁波万里国际学校 郑长青 薛洪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J_01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03176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huck’s Frien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000" y="179388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the title,the first sentence of each paragraph and look 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picture, and then guess who  is Chuck’s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2784600"/>
            <a:ext cx="80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I.Read the passage  and try to decide how many parts it shoul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be divided into and what the main idea of each part is. If t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topic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主题 ）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entence,then find it out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4960" y="400356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should be divided into 4 par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9920" y="45370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1(paragraph 1):the main idea of the fil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9120" y="499428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2(paragraph 2):what Chuck has to do on the isl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9480" y="54514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art 3(paragraph 3):What Chuck real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5908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4(paragraph 4):the lesson the film gives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219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TW_004" descr=""/>
          <p:cNvPicPr/>
          <p:nvPr/>
        </p:nvPicPr>
        <p:blipFill>
          <a:blip r:embed="rId2"/>
          <a:srcRect l="-10397" t="5243" r="-5198" b="36845"/>
          <a:stretch/>
        </p:blipFill>
        <p:spPr>
          <a:xfrm>
            <a:off x="6324480" y="685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9040" y="10317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ding comprehen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0400" y="164160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paragraph one and give the main idea of the film in you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wn word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9960" y="240336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.Read paragraph  two and finish the following tab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4760" y="3174840"/>
            <a:ext cx="0" cy="1524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1240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25780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5812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3680" y="3089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uck has to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1240" y="3089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order 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0384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9240" y="3546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llect wa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6483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4760" y="464832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4956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8952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6840" y="40035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sth. to e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84200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rvive without frien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0520" y="354636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Have water to drin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7360" y="40035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unt for fo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120" y="44197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Make  f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460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ok food, keep war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838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Develop friendship with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3280" y="5451480"/>
            <a:ext cx="77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.read paragraph three and find out what Chuck learns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imself  when he is alone on the isla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PL_061" descr=""/>
          <p:cNvPicPr/>
          <p:nvPr/>
        </p:nvPicPr>
        <p:blipFill>
          <a:blip r:embed="rId2"/>
          <a:srcRect l="0" t="0" r="53335" b="0"/>
          <a:stretch/>
        </p:blipFill>
        <p:spPr>
          <a:xfrm>
            <a:off x="4038480" y="2057400"/>
            <a:ext cx="266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J_00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50840" y="803160"/>
            <a:ext cx="75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V.Read paragraph 4 and tell us what lesson you have lear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the stor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7160" y="1752480"/>
            <a:ext cx="29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Language point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225108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…when suddenly his plane cras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514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520" y="2251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e 15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120" y="263196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all alone---all by one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308916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y grandma is in her eighties and she does housework ~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35463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3.even th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9120" y="385128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~ the weather is very hot, we still go on working in the su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320" y="51814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5.care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38680"/>
            <a:ext cx="76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lly mother cares more about children than children ca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out their mother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120" y="42321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4.treat …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7320" y="476568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force him. Please treat him as a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J_02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508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7160" y="9144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90512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.If you were alone on an island, what would you do in or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to survi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9680" y="2895480"/>
            <a:ext cx="80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Imagine that 4 people are in an airplane that is going to cras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One is a policeman, one is a doctor, one is a teacher, and o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scientist. There is only one parachute. Decide wh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hould get the parachute and explain wh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572000"/>
            <a:ext cx="76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you read </a:t>
            </a:r>
            <a:r>
              <a:rPr b="1" i="1" lang="zh-CN" sz="2400" spc="-1" strike="noStrike">
                <a:solidFill>
                  <a:srgbClr val="cd3333"/>
                </a:solidFill>
                <a:latin typeface="Times New Roman"/>
              </a:rPr>
              <a:t>Robinson Crusoe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 It is a ve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famous book.In the book the hero has liv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lone on an island for over 20 years. He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nd overcame a lot of difficulties. He even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ome savages(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野人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…At last he came back hom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N_005" descr=""/>
          <p:cNvPicPr/>
          <p:nvPr/>
        </p:nvPicPr>
        <p:blipFill>
          <a:blip r:embed="rId2"/>
          <a:srcRect l="11193" t="1154" r="6379" b="23266"/>
          <a:stretch/>
        </p:blipFill>
        <p:spPr>
          <a:xfrm>
            <a:off x="7467480" y="4572000"/>
            <a:ext cx="10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our name</cp:lastModifiedBy>
  <dcterms:modified xsi:type="dcterms:W3CDTF">2003-08-18T01:22:55Z</dcterms:modified>
  <cp:revision>8</cp:revision>
  <dc:subject/>
  <dc:title>没有幻灯片标题</dc:title>
</cp:coreProperties>
</file>